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EF9-78FE-4273-A2B5-AB32B6AD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746-BEC9-4C9A-B339-93EEE43E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0A0-A2E4-430F-AF45-17D627EF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F30-1F0F-4C80-8050-DC9E6D75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1D5-172F-4334-BC1F-85D34E80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DCE-B7B4-4837-B0C7-FEC7465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951-9FE2-4EEE-BBD9-D259D044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6BB-67F5-4B86-A1F9-517999F7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132-566A-49EF-B58A-D72A8BC2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7AB-35BE-4E4E-8051-B79FBAD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0F7-8D4A-4151-BD52-28F21658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E12-E58F-4EC9-BCC1-0351129F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0F49-2161-4AA0-9818-F401EBE2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572616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40360" y="479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"/>
              </a:rPr>
              <a:t>שם היל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88000" y="5516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5516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580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5805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609300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659772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3:08:10Z</dcterms:created>
  <dc:creator>PC-comp</dc:creator>
  <dc:description/>
  <dc:language>en-US</dc:language>
  <cp:lastModifiedBy>PC-comp</cp:lastModifiedBy>
  <dcterms:modified xsi:type="dcterms:W3CDTF">2012-03-15T16:30:27Z</dcterms:modified>
  <cp:revision>6</cp:revision>
  <dc:subject/>
  <dc:title>שקופית 1</dc:title>
</cp:coreProperties>
</file>